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1BDB-F178-4F6D-9BF5-0405DD282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A9A0-152A-4E54-BB58-E8111F355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different learning platforms/VLEs out there. Hampshire went through a long process and decided to use Studywiz. This was re-branded as Hampshire Wizkid in January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4468-13DD-444F-B16F-84A391CC3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ftware is called Studywiz, Hampshire have rebranded it as Hampshire Wizkid. Hampshire went through a process of finding the VLE that best met their requir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A9C9-1CB4-453C-8826-581F3B783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users are all taken from SIMS, so schools need to ensure that all users that need an account are in SI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1F4-AEF6-4037-B3B0-965B4C17B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ave split the benefits into 3 different slides to try and capture the differences between the people that will use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46B2-DF04-43F1-91B0-680278339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may wish to add ‘communicating with school/staff’ but this will depend on if your school has turned this on or n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482E-142C-49B5-94D4-BA833561B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ally show a live demo at this point. If this is not possible there are a few screenshots following that you can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5FE-69B6-4123-BB04-01015CCC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EE0-7F7B-4706-8744-CDAF881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DE4-147D-4ABA-BD82-1A1D4F61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4B5-FACB-4793-8FA8-3D2D98BC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EF1A-DA58-45DC-9379-826879AB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4476-C0A6-4D46-B3AE-37B580A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1C68-5101-4D09-B640-F6C1079E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61B-5221-4ED1-B76C-EF643DAC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EF0C-EF7E-4538-8BB2-089AB76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E0AD-302B-41EF-A00B-F6A59ECF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4A24-AF8F-4EA2-96D4-E648E816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3A3-6CA8-4B23-8918-0BE8D68E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74A3-8AB4-481C-BE41-ED82BB9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463B-7943-4189-A56F-186D362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0FA9-3311-4981-A367-78A4DBF1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9392-B941-4D5D-A082-F9F99755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4E30-4C24-45FD-B4FC-D3174460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052-0925-4FFE-9A12-55F78861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FB4-54A4-4625-9C1A-F1EB64F1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4B8-BD5F-42C6-8B5E-34A5A01E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E7A-9381-4863-875F-70992153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A2F-E2E1-4D4C-BC2A-660B4F1F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AC8-2794-4C6E-89AA-51F45B7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029-A257-4CB9-A9BB-7F743D7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0FFD-F27A-4CA8-89CA-2D6B5C32E7F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729-43F4-43C1-A0D1-7AEBC700F1B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naddison.net/" TargetMode="External"/><Relationship Id="rId2" Type="http://schemas.openxmlformats.org/officeDocument/2006/relationships/hyperlink" Target="http://www.twitter.com/" TargetMode="External"/><Relationship Id="rId3" Type="http://schemas.openxmlformats.org/officeDocument/2006/relationships/hyperlink" Target="http://bit.ly/ianblogpres" TargetMode="External"/><Relationship Id="rId4" Type="http://schemas.openxmlformats.org/officeDocument/2006/relationships/hyperlink" Target="http://bit.ly/iantwitter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cs.google.com/" TargetMode="External"/><Relationship Id="rId2" Type="http://schemas.openxmlformats.org/officeDocument/2006/relationships/hyperlink" Target="http://www.wallwisher.com/" TargetMode="External"/><Relationship Id="rId3" Type="http://schemas.openxmlformats.org/officeDocument/2006/relationships/hyperlink" Target="http://www.primarypad.com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vernote.com/" TargetMode="External"/><Relationship Id="rId2" Type="http://schemas.openxmlformats.org/officeDocument/2006/relationships/hyperlink" Target="http://www.delicious.com/" TargetMode="External"/><Relationship Id="rId3" Type="http://schemas.openxmlformats.org/officeDocument/2006/relationships/hyperlink" Target="http://www.dropbox.com/" TargetMode="External"/><Relationship Id="rId4" Type="http://schemas.openxmlformats.org/officeDocument/2006/relationships/hyperlink" Target="http://www.delicious.com/ianaddison" TargetMode="External"/><Relationship Id="rId5" Type="http://schemas.openxmlformats.org/officeDocument/2006/relationships/hyperlink" Target="http://www.delicious.com/parkfield" TargetMode="External"/><Relationship Id="rId6" Type="http://schemas.openxmlformats.org/officeDocument/2006/relationships/hyperlink" Target="http://www.delicious.com/hampshirebookmarks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nimoto.com/" TargetMode="External"/><Relationship Id="rId2" Type="http://schemas.openxmlformats.org/officeDocument/2006/relationships/hyperlink" Target="http://www.photopeach.com/" TargetMode="External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www.voicethread.com/" TargetMode="External"/><Relationship Id="rId5" Type="http://schemas.openxmlformats.org/officeDocument/2006/relationships/hyperlink" Target="http://www.myebook.com/" TargetMode="External"/><Relationship Id="rId6" Type="http://schemas.openxmlformats.org/officeDocument/2006/relationships/hyperlink" Target="http://www.myebook.com/mr_hill_3-4H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ps.google.co.uk/" TargetMode="External"/><Relationship Id="rId2" Type="http://schemas.openxmlformats.org/officeDocument/2006/relationships/hyperlink" Target="http://dougbelshaw.com/blog/2009/12/21/movemeon-book-now-available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er Media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PD –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Blogg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Tw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ing Presentation -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bit.ly/ianblogpr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itter Guide -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http://bit.ly/iantwit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on –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Google Doc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allw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Primary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–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Everno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Delici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Drop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delicious.com/ianad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www.delicious.com/park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delicious.com/hampshirebookmark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vity –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Animo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Photopea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ord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Voicethre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My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http://www.myebook.com/mr_hill_3-4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c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StreetVi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Move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 That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Homework (sort of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ideastoinspir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apps4class.wikispaces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 blog: www.ianaddison.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Powerpoint: http://bit.ly/ianp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l@ianaddison.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twitter.com/ianadd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LE/Learning Platforms – Wizk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0066"/>
                </a:solidFill>
                <a:latin typeface="Arial"/>
              </a:rPr>
              <a:t>What 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’s a Learn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llection of online tools for learning, teaching and management of lea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tools that enable users to communicate and collaborate eff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originally were set up to supplement distance learning, but are now becoming a way of enhancing learning in schools, particularly exploiting home/school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3924360" y="189000"/>
            <a:ext cx="3024000" cy="1366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804000" y="40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0066"/>
                </a:solidFill>
                <a:latin typeface="Arial"/>
              </a:rPr>
              <a:t>What 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different types of VLE and Wizkid is the chosen one for Hampsh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eachers and ASTs were on the panel to decide on the chosen learning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zkid is Hampshire’s name for the Studywiz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lout began in June 2008 and as of January 2010, over 400 schools are using Wizk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3924360" y="189000"/>
            <a:ext cx="302400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804000" y="40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0066"/>
                </a:solidFill>
                <a:latin typeface="Arial"/>
              </a:rPr>
              <a:t>What 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zkid can be accessed from any computer or device connected to the internet. (Even on a Wii or iph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will have access to a wide-range of educational content, links and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ild and adult will have their own unique username and a pass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the possibility of working across schools with different children – transition projects? Cross-school wor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3924360" y="189000"/>
            <a:ext cx="3024000" cy="136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6804000" y="40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Benefits of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560" y="2491920"/>
            <a:ext cx="676908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content and plans between colleagues o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use of multimedia withi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ored learning to suit the pupils’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across schools and Hamp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to pupils and othe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4284720" y="765000"/>
            <a:ext cx="30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Benefits of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560" y="2491920"/>
            <a:ext cx="676908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up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and secure onlin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 and safe plac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access activities based on curr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st home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4284720" y="765000"/>
            <a:ext cx="30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Benefits of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8920" y="2491920"/>
            <a:ext cx="72007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par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can easily share thei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way to ensure your child is accessing educational and relevant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ents will have their own lo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ccess to your child’s attainment and attendance repor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4284720" y="765000"/>
            <a:ext cx="30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ow lets have a look 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voki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Maps.google.co.u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.l.munday</cp:lastModifiedBy>
  <dcterms:modified xsi:type="dcterms:W3CDTF">2011-02-22T12:17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